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995-F2C6-4899-8456-C498752C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2929-2C5C-457C-869E-A9E73C7A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E30-B0C0-4D9E-8C42-38BC0902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FED-28E2-4203-81F2-B65C3507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3870-6A89-4D14-B9F9-AD9EBCAB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C8A-73E1-4926-A482-35C6A2CA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C8F9-03A6-4091-98F0-557FD2F1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0A3-E9DD-4B60-A9BC-34A4D75D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62FC-7B0A-458C-BF61-29473F1C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1BE-C84E-4400-B29E-5631D82A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F2D-8E1C-451C-8BAB-482DA40B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F699-48FF-4302-9E31-F81C54C8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BD91-6BA2-4FF8-8E4C-73F40B489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975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24480" y="685800"/>
            <a:ext cx="2210040" cy="82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ئنا نُبَشِّركم  بالفرح   فرح ولادة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د ول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ا اليوم مخلصٌ    وهو المسيح يسوع (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3369617fAeoZnVnqp_ph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لويا في كل العالم    هللويا في بيت لحم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لويا في مذود        هللويا ولد المسيح (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975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24480" y="685800"/>
            <a:ext cx="2210040" cy="82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ئنا نُبَشِّركم  بالفرح   فرح ولادة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د ول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ا اليوم مخلصٌ    وهو المسيح يسوع (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513843cCRujYBHua_ph" descr=""/>
          <p:cNvPicPr/>
          <p:nvPr/>
        </p:nvPicPr>
        <p:blipFill>
          <a:blip r:embed="rId1"/>
          <a:stretch/>
        </p:blipFill>
        <p:spPr>
          <a:xfrm>
            <a:off x="0" y="0"/>
            <a:ext cx="59799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72200" y="685800"/>
            <a:ext cx="2514600" cy="75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لويا إفرحوا          هللويا وابتهجو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لويا تهللوا           هللويا ولد المسيح (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975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24480" y="685800"/>
            <a:ext cx="2210040" cy="82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ئنا نُبَشِّركم  بالفرح   فرح ولادة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د ول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ا اليوم مخلصٌ    وهو المسيح يسوع (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2T07:49:17Z</dcterms:created>
  <dc:creator>SUZANNE.MD</dc:creator>
  <dc:description/>
  <dc:language>en-US</dc:language>
  <cp:lastModifiedBy>USER</cp:lastModifiedBy>
  <dcterms:modified xsi:type="dcterms:W3CDTF">2002-12-31T13:46:49Z</dcterms:modified>
  <cp:revision>2</cp:revision>
  <dc:subject/>
  <dc:title>PowerPoint Presentation</dc:title>
</cp:coreProperties>
</file>